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suction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AAB-E945-48E3-AAC0-761F0158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D79-B72E-4499-AD32-BA68135A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49C-2395-4538-975D-1B71953B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424-AAC5-41C0-9086-EF3E4C57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FFC0-36F5-422F-9711-AE738A99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C778-8B85-4C92-A501-D94DD4EF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E549-097A-4095-B4DB-D5A44164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C5CC-43D8-411A-9FE3-9844F883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C721-C013-47FB-8BD7-0EC8A79F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5326-53E6-4ECA-9B7B-BC826E80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E49A-956A-4B4B-ABE8-EFC18432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EBA7-C466-41C0-81A1-2D2F8C5D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D3B8-26A6-4E63-ACB4-312FA83E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0E50-58EC-48FA-95EC-5E738CE2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14CF-79B2-4469-A12B-D96D9553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4472-516A-4365-80F6-FD425C6B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ADB1-9A0B-4E9C-BC32-70A73A2F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82B1-37F3-4500-8700-42992E18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E9F1-2932-42EE-852A-195A96D5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1A6-7DA9-45E1-B7EF-24C0060D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F898-F5AB-41A4-912F-201BFF06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D54E-C6AE-4D00-9E0D-D5E7C88D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A5D-0CC1-4219-BB36-DE4F37FC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4750-25EF-4505-B278-754D9C9C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DE84-6B10-45EF-A3D1-939CB0057A84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A33A-2C6A-4F30-8AE9-7A2B331BDE4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2EDA-584F-4E61-84EC-EE8B8052F1BD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5AF8-3173-4B2C-9F54-C184A57072F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aferinternet.at/themen/cyber-mobbing/" TargetMode="External"/><Relationship Id="rId2" Type="http://schemas.openxmlformats.org/officeDocument/2006/relationships/hyperlink" Target="http://de.wikipedia.org/wiki/Cyber-Mobbing" TargetMode="External"/><Relationship Id="rId3" Type="http://schemas.openxmlformats.org/officeDocument/2006/relationships/hyperlink" Target="http://kidsweb.at/more-help/stark-im-netz/cyber-mobbing.html" TargetMode="External"/><Relationship Id="rId4" Type="http://schemas.openxmlformats.org/officeDocument/2006/relationships/image" Target="../media/image1.jpeg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YBER MOBBIN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RSTELLT VO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LOS LAZAREV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newsflash/>
    <p:sndAc>
      <p:stSnd>
        <p:snd r:embed="rId1" name="suctio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S IST CYBER MOBBING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de-DE" sz="3200" spc="-1" strike="noStrike">
                <a:solidFill>
                  <a:srgbClr val="ffffff"/>
                </a:solidFill>
                <a:latin typeface="Verdana"/>
              </a:rPr>
              <a:t>Cyber-Mobbing ist das absichtliche Beleidigen, Bedrohen, Bloßstellen oder Belästigen von Personen im Internet oder mit dem Handy – meist über einen längeren Zeitraum.</a:t>
            </a: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los Lazare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7252-4DAF-4B20-B783-EE19641BC01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4ADF6-EA77-42A5-A7D8-17D99695665B}" type="datetime1">
              <a:rPr lang="en-US"/>
              <a:t>07/29/26</a:t>
            </a:fld>
          </a:p>
        </p:txBody>
      </p:sp>
    </p:spTree>
  </p:cSld>
  <p:transition spd="slow">
    <p:newsflash/>
    <p:sndAc>
      <p:stSnd>
        <p:snd r:embed="rId1" name="suctio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IE SCHÜTZT MAN SICH DAVO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1. Bleib ruhig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. Sperre die, die dich belästigen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. Antworte nicht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. Sichere Beweise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5. Rede darüber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6. Melde Probleme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7. Unterstütze Opfer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8. Schütze deine Privatsphäre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9. Kenne deine Rechte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10. Vertraue dir!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los Lazare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A7E-8C1F-475E-8ADA-C27693B26C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B0758-5460-495F-AE47-D85000BE04BD}" type="datetime1">
              <a:rPr lang="en-US"/>
              <a:t>07/29/26</a:t>
            </a:fld>
          </a:p>
        </p:txBody>
      </p:sp>
    </p:spTree>
  </p:cSld>
  <p:transition spd="slow">
    <p:newsflash/>
    <p:sndAc>
      <p:stSnd>
        <p:snd r:embed="rId1" name="suctio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BBING-ART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In der Schul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Am Arbeitsplatz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Im Sportvere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Im Altersheim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Im Gefängni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Im Intern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los Lazare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A456-11B3-414A-8FE6-C67FCC07BD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D46FF-BBE9-4A50-BB8B-C2B08FF24F2F}" type="datetime1">
              <a:rPr lang="en-US"/>
              <a:t>07/29/26</a:t>
            </a:fld>
          </a:p>
        </p:txBody>
      </p:sp>
    </p:spTree>
  </p:cSld>
  <p:transition spd="slow">
    <p:newsflash/>
    <p:sndAc>
      <p:stSnd>
        <p:snd r:embed="rId1" name="suctio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ybermobbing: 13-Jähriger beging Selbstmord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in Fall von Cybermobbing hat in Kärnten im Jahr 2010 zum Freitod eines 13-Jährigen geführt. Der Schüler war via Internet als homosexuell bezeichnet worden. Seine Mutter warnt nun vor den Gefahren der Belästigung über das Interne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los Lazare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8363-84ED-42B8-BDC2-FFB24C206A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A820F-C6FA-4D6E-BA68-0D1276CCA41A}" type="datetime1">
              <a:rPr lang="en-US"/>
              <a:t>07/29/26</a:t>
            </a:fld>
          </a:p>
        </p:txBody>
      </p:sp>
    </p:spTree>
  </p:cSld>
  <p:transition spd="slow">
    <p:newsflash/>
    <p:sndAc>
      <p:stSnd>
        <p:snd r:embed="rId1" name="suctio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IER KÖNNT IHR MEHR ZU DIESEM THEMA ERFAHR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Themen - Cyber-Mobbing : Saferinternet.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Cyber-Mobbing – Wikiped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Kidsweb: Cyber Mobb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71680" y="2441520"/>
            <a:ext cx="3390840" cy="253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los Lazare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61B-6536-4703-9743-24633B3A8F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97717-F494-422D-B89A-0B4ED5F6A377}" type="datetime1">
              <a:rPr lang="en-US"/>
              <a:t>07/29/26</a:t>
            </a:fld>
          </a:p>
        </p:txBody>
      </p:sp>
    </p:spTree>
  </p:cSld>
  <p:transition spd="slow">
    <p:newsflash/>
    <p:sndAc>
      <p:stSnd>
        <p:snd r:embed="rId5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015</cp:lastModifiedBy>
  <dcterms:modified xsi:type="dcterms:W3CDTF">2011-02-21T12:31:1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